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2BA-B54F-4124-9E6C-74AD76B4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939-34AA-49A0-B960-3415A9F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6D2-5BDF-4A2D-9248-5C1E8B43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062-5B08-4F4A-B581-E4DF1096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70B6-2AF3-4712-B62C-2C8B672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75F-ECBC-4566-917C-271E572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B39A-C8DF-4DA9-8F96-DEA0B98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631-1CBF-4D40-B76F-3C9D2AC9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C51B-3AA5-4AD7-BBD5-080DE5EB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D265-1D32-466B-B028-AFF8B174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CD8-CE20-46AA-905F-01A3EB0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B92-96A6-412C-8A05-E5087F45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E46B-C41E-4B66-9EEA-B8088630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0E5D-FDE7-4950-98FE-84A3F98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FAF1-1799-4060-958B-530115F3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628E-6E7E-4A7B-97B6-7BA65A26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A92-4FAC-4F82-8E08-5AE0C18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F7E-43FE-499D-8461-33E6259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9E5-938C-472B-B34E-1EA8F58F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EDF-AC5D-4571-9008-F924676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BD5-2AC6-4F99-B3FE-0E0D046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F73-DEBD-4A6F-8FFF-D911703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86A-68FF-4149-B08C-BD0A984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3A2-E67D-4EC1-9131-475157B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E29-5362-457B-94ED-F47B7AA29CD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BFF-C443-412A-9670-9AB62A95107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225360" y="566640"/>
            <a:ext cx="8997840" cy="285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3680" y="4000320"/>
            <a:ext cx="3643200" cy="10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вторы :Короленко Ю.П.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Шарапова В.И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студенты 636 групп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своей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выполнения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мощь в обеспечении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HUHDWN07"/>
          <p:cNvPicPr/>
          <p:nvPr/>
        </p:nvPicPr>
        <p:blipFill>
          <a:blip r:embed="rId3"/>
          <a:stretch/>
        </p:blipFill>
        <p:spPr>
          <a:xfrm>
            <a:off x="5508720" y="3789360"/>
            <a:ext cx="237636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KIDS021"/>
          <p:cNvPicPr/>
          <p:nvPr/>
        </p:nvPicPr>
        <p:blipFill>
          <a:blip r:embed="rId4"/>
          <a:stretch/>
        </p:blipFill>
        <p:spPr>
          <a:xfrm>
            <a:off x="1116000" y="3789360"/>
            <a:ext cx="295128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достижения поставленной це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астие в коллективном анализе и оценке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KIDS087"/>
          <p:cNvPicPr/>
          <p:nvPr/>
        </p:nvPicPr>
        <p:blipFill>
          <a:blip r:embed="rId3"/>
          <a:stretch/>
        </p:blipFill>
        <p:spPr>
          <a:xfrm>
            <a:off x="611280" y="3357720"/>
            <a:ext cx="3456000" cy="28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UHDWN15"/>
          <p:cNvPicPr/>
          <p:nvPr/>
        </p:nvPicPr>
        <p:blipFill>
          <a:blip r:embed="rId4"/>
          <a:stretch/>
        </p:blipFill>
        <p:spPr>
          <a:xfrm>
            <a:off x="5867280" y="3357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762120"/>
            <a:ext cx="8229600" cy="1304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анова М.И. Правила безопасного общения с компьютером // Детский сад от А до Я.- 2003.- №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384120" y="615960"/>
            <a:ext cx="8674200" cy="59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244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омпьютер - друг или враг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3" descr="KPC.jpg"/>
          <p:cNvPicPr/>
          <p:nvPr/>
        </p:nvPicPr>
        <p:blipFill>
          <a:blip r:embed="rId3"/>
          <a:stretch/>
        </p:blipFill>
        <p:spPr>
          <a:xfrm>
            <a:off x="2357280" y="2428920"/>
            <a:ext cx="4572000" cy="421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 обеспечить условия безопасной работы за компьютер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последствия ожидаются при неправильной работы за компьютер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3" descr="WOMANPC.jpg"/>
          <p:cNvPicPr/>
          <p:nvPr/>
        </p:nvPicPr>
        <p:blipFill>
          <a:blip r:embed="rId3"/>
          <a:stretch/>
        </p:blipFill>
        <p:spPr>
          <a:xfrm>
            <a:off x="2428920" y="357192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нятия по информат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современных информационных и коммуникативных технолог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Участник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Рисунок 3" descr="KIDS054.jpg"/>
          <p:cNvPicPr/>
          <p:nvPr/>
        </p:nvPicPr>
        <p:blipFill>
          <a:blip r:embed="rId3"/>
          <a:stretch/>
        </p:blipFill>
        <p:spPr>
          <a:xfrm>
            <a:off x="1500120" y="392904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KIDS020.jpg"/>
          <p:cNvPicPr/>
          <p:nvPr/>
        </p:nvPicPr>
        <p:blipFill>
          <a:blip r:embed="rId4"/>
          <a:stretch/>
        </p:blipFill>
        <p:spPr>
          <a:xfrm>
            <a:off x="5572080" y="385776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390600" y="195120"/>
            <a:ext cx="855180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1" lang="ru-RU" sz="36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ить студентов безопасно общаться с компьюте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я о вреде компьютера при неправильном его использова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ить использовать средства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 POIN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оздании 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ить пользу компьютера при правильном его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здание условий безопасной работы за компьютером дома и на уч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ие условия безопасной работы за компьют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дствия неправильной работы за компьют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99" name="Содержимое 2"/>
          <p:cNvGrpSpPr/>
          <p:nvPr/>
        </p:nvGrpSpPr>
        <p:grpSpPr>
          <a:xfrm>
            <a:off x="384120" y="1474920"/>
            <a:ext cx="8521920" cy="5054400"/>
            <a:chOff x="384120" y="1474920"/>
            <a:chExt cx="8521920" cy="5054400"/>
          </a:xfrm>
        </p:grpSpPr>
        <p:pic>
          <p:nvPicPr>
            <p:cNvPr id="100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384120" y="1474920"/>
              <a:ext cx="852192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57200" y="1600200"/>
              <a:ext cx="8229600" cy="47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резентация студентов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Анкетирование педагогов «польза или вред»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оздание буклетов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ициирующи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определение темы, уточнение цели и задач; выбор рабочей групп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ополагающий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помощь педагога в анализе и синтезе, наблюдение и контро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ение исслед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 и уточнение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ение плана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бщении полученной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KIDS003"/>
          <p:cNvPicPr/>
          <p:nvPr/>
        </p:nvPicPr>
        <p:blipFill>
          <a:blip r:embed="rId3"/>
          <a:stretch/>
        </p:blipFill>
        <p:spPr>
          <a:xfrm>
            <a:off x="1042920" y="4437000"/>
            <a:ext cx="237672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UHDWN18"/>
          <p:cNvPicPr/>
          <p:nvPr/>
        </p:nvPicPr>
        <p:blipFill>
          <a:blip r:embed="rId4"/>
          <a:stretch/>
        </p:blipFill>
        <p:spPr>
          <a:xfrm>
            <a:off x="5796000" y="4508640"/>
            <a:ext cx="2521080" cy="20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9:07:43Z</dcterms:created>
  <dc:creator>студент</dc:creator>
  <dc:description/>
  <dc:language>en-US</dc:language>
  <cp:lastModifiedBy>Serg</cp:lastModifiedBy>
  <dcterms:modified xsi:type="dcterms:W3CDTF">2009-10-19T18:32:15Z</dcterms:modified>
  <cp:revision>8</cp:revision>
  <dc:subject/>
  <dc:title>Правила безопасного общения с компьютером</dc:title>
</cp:coreProperties>
</file>